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0800-043F-4365-ACBA-71AF5EA7E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6AAF-CC3F-4C68-8059-BF9677EF6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EFE-E88D-4763-950A-83808467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AAE-FE65-4E48-AFFE-6336944A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8D7-4C91-442E-A73D-9DA79646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843-E7D8-4B17-B209-76B768B0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16E-2105-4897-A293-114C72C5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72D-4DA2-4109-9706-F29EB6BC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459-16ED-4C03-8EF5-B974D237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662-565C-447A-9FCE-72504D56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986-7959-4931-85B2-AC504660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485-6BA2-44AB-95E1-68C4567B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8D2-FEBB-446A-88AC-DF5A3FAB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193-08C4-4A9E-A8BB-A5AAFB6C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B7BD-C9D7-48F9-AD1A-B7E4C0364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gela Di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ngela D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gela Die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gela Diep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gela Diep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1814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457200" y="58802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e llamo Angela Die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Yo vivo en New Y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engo catorce añ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No tengo hermanos, pero tengo dos primos en New York, y nuestro apellido somos el mism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Yo soy alta y asiátic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3440"/>
            <a:ext cx="1957680" cy="2060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914400" y="58802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l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43434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soy no pequeño, estupido!  Buenas noches, Tarangela!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Om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56386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días, PJ. Estoy muy perezosa. Tu sombrero es muy lindo! ¿Cuántos sombreros tienes?          Ang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Angela. ¿Cómo estas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P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54864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, tú eres, y tú no lo puedes negar.  Y yo soy no Tarangela! Chao, Omlet.                                           Ang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6248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es la tarea y cuánto tu haces? Yo estoy cansada.  Y recordar Ethan? Él dice él está enfermo.                          To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362320" y="5943600"/>
            <a:ext cx="67816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ías, Angela! Tengo tres sombreros, pero su piel es áspero. Nosotros todos estamos cansados, nuestra tarea es 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scribir un ensayo y estudiar.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9" descr="fb pic 3.png"/>
          <p:cNvPicPr/>
          <p:nvPr/>
        </p:nvPicPr>
        <p:blipFill>
          <a:blip r:embed="rId2"/>
          <a:stretch/>
        </p:blipFill>
        <p:spPr>
          <a:xfrm>
            <a:off x="205740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6" descr="fb pic 1.png"/>
          <p:cNvPicPr/>
          <p:nvPr/>
        </p:nvPicPr>
        <p:blipFill>
          <a:blip r:embed="rId3"/>
          <a:stretch/>
        </p:blipFill>
        <p:spPr>
          <a:xfrm>
            <a:off x="76320" y="533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7" descr="fb pic 2 copy.png"/>
          <p:cNvPicPr/>
          <p:nvPr/>
        </p:nvPicPr>
        <p:blipFill>
          <a:blip r:embed="rId4"/>
          <a:stretch/>
        </p:blipFill>
        <p:spPr>
          <a:xfrm>
            <a:off x="137160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" descr="fb pic 2 copy.png"/>
          <p:cNvPicPr/>
          <p:nvPr/>
        </p:nvPicPr>
        <p:blipFill>
          <a:blip r:embed="rId5"/>
          <a:stretch/>
        </p:blipFill>
        <p:spPr>
          <a:xfrm>
            <a:off x="2057400" y="3733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fb pic 3.png"/>
          <p:cNvPicPr/>
          <p:nvPr/>
        </p:nvPicPr>
        <p:blipFill>
          <a:blip r:embed="rId6"/>
          <a:stretch/>
        </p:blipFill>
        <p:spPr>
          <a:xfrm>
            <a:off x="228600" y="5486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fb pic 4.png"/>
          <p:cNvPicPr/>
          <p:nvPr/>
        </p:nvPicPr>
        <p:blipFill>
          <a:blip r:embed="rId7"/>
          <a:stretch/>
        </p:blipFill>
        <p:spPr>
          <a:xfrm>
            <a:off x="838080" y="5486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2" descr="fb pic 4.png"/>
          <p:cNvPicPr/>
          <p:nvPr/>
        </p:nvPicPr>
        <p:blipFill>
          <a:blip r:embed="rId8"/>
          <a:stretch/>
        </p:blipFill>
        <p:spPr>
          <a:xfrm>
            <a:off x="1981080" y="5105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fb pic 1.png"/>
          <p:cNvPicPr/>
          <p:nvPr/>
        </p:nvPicPr>
        <p:blipFill>
          <a:blip r:embed="rId9"/>
          <a:stretch/>
        </p:blipFill>
        <p:spPr>
          <a:xfrm>
            <a:off x="20574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6" descr="fb pic 1.png"/>
          <p:cNvPicPr/>
          <p:nvPr/>
        </p:nvPicPr>
        <p:blipFill>
          <a:blip r:embed="rId10"/>
          <a:stretch/>
        </p:blipFill>
        <p:spPr>
          <a:xfrm>
            <a:off x="22096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9" descr="fb pic 3.png"/>
          <p:cNvPicPr/>
          <p:nvPr/>
        </p:nvPicPr>
        <p:blipFill>
          <a:blip r:embed="rId11"/>
          <a:stretch/>
        </p:blipFill>
        <p:spPr>
          <a:xfrm>
            <a:off x="1676520" y="594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2:14Z</dcterms:created>
  <dc:creator>FriscoISD</dc:creator>
  <dc:description/>
  <dc:language>en-US</dc:language>
  <cp:lastModifiedBy>NYCDOE</cp:lastModifiedBy>
  <dcterms:modified xsi:type="dcterms:W3CDTF">2012-12-07T14:18:10Z</dcterms:modified>
  <cp:revision>112</cp:revision>
  <dc:subject/>
  <dc:title>Profile</dc:title>
</cp:coreProperties>
</file>